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05C-09BC-4B58-B0D5-B9ECAD9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CAC-05F7-40E2-941C-E6DC63B7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6D3-2F4C-4230-AC7C-27E7FB4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E80-C562-4F7B-AFD5-EA259622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EB3-7B3F-4446-BF53-0583A55C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888-730E-4EC7-8583-89EEBCD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165-3364-4D1F-9E2A-06B78983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FD7-3EEC-4A0B-A588-1F3EFD6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231-FD5D-4940-AF62-A678C36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D54-A995-4FBB-ABBE-A994864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CEA-ED4C-4B1B-BC2E-EC7F5DD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7AE-5AC6-439C-8494-677B8A1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5DA-820A-43D3-A8AE-F9F6416E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4578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609480"/>
          <a:ext cx="8077320" cy="4870440"/>
        </p:xfrm>
        <a:graphic>
          <a:graphicData uri="http://schemas.openxmlformats.org/drawingml/2006/table">
            <a:tbl>
              <a:tblPr/>
              <a:tblGrid>
                <a:gridCol w="1152360"/>
                <a:gridCol w="1155960"/>
                <a:gridCol w="1152360"/>
                <a:gridCol w="1155600"/>
                <a:gridCol w="1152720"/>
                <a:gridCol w="1155600"/>
                <a:gridCol w="1152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11:05Z</dcterms:created>
  <dc:creator>J Barger</dc:creator>
  <dc:description/>
  <dc:language>en-US</dc:language>
  <cp:lastModifiedBy>J Barger</cp:lastModifiedBy>
  <dcterms:modified xsi:type="dcterms:W3CDTF">2010-03-09T19:17:08Z</dcterms:modified>
  <cp:revision>1</cp:revision>
  <dc:subject/>
  <dc:title>Slide 1</dc:title>
</cp:coreProperties>
</file>